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41A-65F5-4416-847F-0C3D6C0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1F6-300A-42FC-A87F-F74BB45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0CD-AAE6-4B08-87F0-1DD48E73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110-3816-4BAD-8FD8-819EF3CE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FB0E-234E-4992-8DF0-EA096225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ECB-F6BF-4072-BA47-91BE586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C2C6-4982-4848-B8D5-BFF0C175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083-E4D8-4CF5-82E3-7B7CB5C1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9C1A-11D3-4AA8-A0BA-B8420CA4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3D3-080B-4741-9162-689803D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648-543E-4E67-B7E9-08022DF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068-A707-4639-8E48-D4B8465C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E548-7E22-4710-AD3D-CF8051D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57B3-780F-4D1B-854F-EE3D3773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EB3-AAE1-4AB5-AC80-D46ACB6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091-5EE4-4402-BCF2-659FEC5F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8B48-B9AF-4587-BF27-AF62A01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948-04DD-458D-9B19-66345D67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50C-F7E0-42E8-96EF-DC2250B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8C5-0440-48AE-B332-C90D0A1C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BE6-54ED-41C1-9F66-9ED96537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2D6-800A-473D-905B-C9E0817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845-AF47-4166-A984-4637DF5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F18-412F-4836-9D82-E178946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3B7-5669-4916-BD93-68F607C0633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4E92-C46E-42FB-BAA7-38655777B1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scs-exchange.gscs.org/exchange/emily.johnson/Inbox/Health Syllabus, Health Goals, Com_xF8FF_Non Com LP, Drugs_xF8FF_tobacco LP, LP Template.EML/Unit 8 Diseases.doc/C58EA28C-18C0-4a97-9AF2-036E93DDAFB3/Unit 8 Diseases.doc?attach=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Ds and HIV/AI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pter 12: Lesson 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A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hat words and phrases come to mind when you see this word?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alth Goal # 3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 will choose behaviors to reduce my risk of infection with Sexually Transmitted Dise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IV/AIDS 10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IV/AIDS 101 Vide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rough Stages of the Disease ON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te Video Workshee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8:02:14Z</dcterms:created>
  <dc:creator>Hope Whiting</dc:creator>
  <dc:description/>
  <dc:language>en-US</dc:language>
  <cp:lastModifiedBy>Hope Whiting</cp:lastModifiedBy>
  <dcterms:modified xsi:type="dcterms:W3CDTF">2011-06-21T18:24:02Z</dcterms:modified>
  <cp:revision>2</cp:revision>
  <dc:subject/>
  <dc:title>STDs and HIV/AIDS</dc:title>
</cp:coreProperties>
</file>